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36DD-4EEA-48ED-977A-3E19D3BF041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56E8-E67A-4EEC-A33F-29021B361E3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00C1-B7CF-4ABC-889D-C17547EDB06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D083-00D8-462C-98A9-9571BBF92F8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828B-5457-4249-A22F-A76B1EA8E1B4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8C8-A1F1-40FD-8497-B95BC1BD9E8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6530-0CDE-4557-BA48-59F204C164B5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FC31-428F-4A0D-8292-911B69C20B3E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BB4C-B636-4F97-9BD7-4FC397FDF31A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7F60-00A4-461E-941F-621ECAE720BA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45B6-8210-4278-84CD-7BF2B314AE1A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A0AD-01D4-407A-9752-3D4D1D863AB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0F51-BE01-4BA4-8DD2-88520BDA74A9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CB36-F053-4E89-8B7E-E4BF337C090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305D-E54E-4E80-841B-8397B92652B6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8020-998B-4FD7-B779-3D514257CEB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B746-6A5C-4F55-9765-5B85989B7DC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11EA-085D-43B9-9282-5D6A90DC948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62CC-3639-43BB-A125-6D91B43F6FD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1B93-533D-428E-9023-861A503B927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106-76DE-4F59-96AD-F40B6F62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E91-DD06-45F4-ABAF-45F65AE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89F-29AA-4707-A56F-21C2AAE5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D29-10D4-4F4E-B8AB-C0C6BC4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0ED-53DC-42BE-AFF9-59C29953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9F6-0ED9-4F1C-A0FD-7FC89487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952-B9C1-472F-967F-BC65481D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5EE-0860-43B5-8E82-1BDBCFE4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761-44D0-48AC-A4BF-E69B7D11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474-D6A4-4E1E-A233-F727FF2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886-C8B8-4C5E-BB17-877A24F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E88-29D5-4C2C-ADCA-C5D672A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0256-53D9-489D-9316-F4DBDCE66E79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μυελό των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θυστέρηση ωρίμανσης πυρ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γάλοι ερυθροβλάστες με ανώμαλους πυρήνε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δυκτιοερυθρ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Στην κοκκιώδη σειρά: Γιγάντια μεταμυελ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υρήματα ήπιας ενδαγγειακής αιμόλυ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όγω μη αποδοτικής ερυθροποίη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Μειωμένα επίπεδα κοβαλαμίνης (Β</a:t>
            </a:r>
            <a:r>
              <a:rPr b="1" lang="el-GR" sz="2600" spc="-1" strike="noStrike" u="sng" baseline="-25000">
                <a:solidFill>
                  <a:srgbClr val="1f497d"/>
                </a:solidFill>
                <a:uFillTx/>
                <a:latin typeface="Calibri"/>
              </a:rPr>
              <a:t>12</a:t>
            </a: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) πλάσ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ε ανεπάρκεια φυλλικού οξέ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επίπεδα φυλλικού οξέος στον ορό και στα ερυθρ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ΘΕΡΑΠΕ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Υποστηρικτική θεραπε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: Χορήγηση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φυλλικού: Χορήγηση φυλλικού οξέ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ΑΚΟΗΘΗΣ ΑΝΑΙΜ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λαττωμένη έκκριση ενδογενούς παράγοντα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υ είναι απαραίτητος για την απορρόφηση τ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ωση απορρόφησ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γαλοβλαστική και μακροκυτταρι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η παραγωγή χολερυθρίνης λόγω αιμόλυσης των ανώμαλων ερυθρών (ίκτερ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οι αναιμίες που οφείλονται σε αιμόλυση, δηλαδή σε αύξηση του ρυθμού καταστροφής των ερυθρών αιμοσφαιρίω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ην αιμόλυση ο χρόνος ζωής των ερυθρών μειώνεται από 120 ημέρες σε λιγότερο από 100 ημέρε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ΤΑΞΙΝΟΜΗΣΕΙΣ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341360"/>
          <a:ext cx="8280360" cy="507384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ΡΙΤΗΡΙΟ ΤΑΞΙΝΟΜΗ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ΜΟΡΦΕΣ ΑΙΜΟΛΥΤΙΚΗΣ ΑΝΑΙΜΙ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. Τόπος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. Διάρκεια καταστροφ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Οξεί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Χρόν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 Κληρονομικότη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γγεν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κτη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. Αίτιο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. Συμμετοχή ανοσοποιητ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η 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ΠΑΘΟΦΥΣΙΟΛΟΓΙΚΗ ΤΑΞΙΟΝΟΜΗΣΗ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. ΣΥΓΓΕΝ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μεμβρά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Έλλειψη ενζύμων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α ερυθρά (π.χ. έλλειψη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G6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αιμοσφαιρίνη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μεσογεια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δρεπανοκυτταρ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άλλες αιμοσφαιρινοπάθει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Ι. ΕΠΙΚΤΗΤ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Ανοσολογικής αρχή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Αυτ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Αλλ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αρμακογενή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2.   Σύνδρομα κατακερματισμού ερυθρώ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Μικροαγγειοπαθητική αιμόλυση από ποικίλες αιτ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Προσθετικές βαλβίδ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Γιγαντιαίο αιμαγγείωμ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Εγκαύματ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3.   Χημικοί και Φυσικοί παράγ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Δηλητήρ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άρμακ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Βιομηχανικές ουσ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4.   Λοιμώξε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5.   Άλλα αίτ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ΚΔΗΛΩΣΕΙΣ ΑΙΜΟΛΥΤΙΚΗΣ ΑΝΑΙΜΙΑ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ρχικά χωρίς συμπτώματα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λόγω αντιστάθμι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τη συνέχεια, εκδηλώσεις αναιμίας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φάνιση Χολολιθία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α επίπεδα σιδήρου -κίνδυνος εναπόθεσης σε καρδιά και ήπαρ (διόγκωση ήπατ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Όταν η κατάσταση δεν μπορεί να αντιρροπισθεί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τότε η αιμόλυση οδηγεί σε πτώση του αιματοκρίτ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ΕΡΓΑΣΤΗΡΙΑΚΑ ΕΥΡΗΜΑΤΑ ΣΤΙΣ ΑΙΜΟΛΥΤΙΚΕΣ 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5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Τα ευρήματα εξαρτώνται από την αιτία της αιμόλυσ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1f497d"/>
                </a:solidFill>
                <a:uFillTx/>
                <a:latin typeface="Calibri"/>
              </a:rPr>
              <a:t>Γενικ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Πτώση αριθμού ερυθρών 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DH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(λόγω αιμόλυση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σιδήρο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α υπόλοιπα εξαρτώνται από την αιτία της αιμόλυ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φείλεται σε ανεπάρκεια της βιταμίνης Β12 ή/και του φυλλικού οξέο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Χαρακτηρίζεται από ύπαρξη μεγάλων ερυθροβλαστών στο μυελό των οστών, λόγω διαταραχής στη σύνθεση του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560"/>
            <a:ext cx="7772400" cy="7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ιωμένα επίπεδα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και φυλλικού οξέος επηρεάζουν τη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διαίρεση και ωρίμανσ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των κυττάρ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άγονται μεγάλα ανώμαλα ερυθρά, τα μακροκύτταρα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ακροκυτταρ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Στο μυελό υπάρχουν πρόδρομες μορφές ερυθρών, οι μακροβλάστες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εγαλοβλαστ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Για την απορρόφηση τ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απαιτείται η ύπαρξη του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ενδογενούς παράγοντ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που εκκρίνεται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και το σύμπλεγμα απορροφάται από τον ειλε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Β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αποθηκεύεται στο ήπαρ για 1-2 χρόν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ΙΤΙΑ ΑΝΕΠΑΡΚΕΙΑΣ 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07560"/>
            <a:ext cx="857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ζωικών τροφίμων και λαχανικώ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απορρόφηση - Δυσαπορρόφηση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Ατροφική γαστρίτιδ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Κακοήθης αναιμία (απουσία ενδογενούς παράγοντ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Γαστρεκτομή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Παγκρεατική ανεπάρκε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Νόσος </a:t>
            </a: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Croh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Ανταγωνισμός για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στο έντερο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(υπερανάπτυξη μικρο-βιακής χλωρίδας, παρασίτωση, σύνδρομο τυφλής έλικα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ταβολικά νοσήμα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ΤΙΑ ΑΝΕΠΑΡΚΕΙΑΣ ΦΥΛΛΙΚΟΥ ΟΞΕΟ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Δυσαπορρόφηση φυλλικού οξέο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Φάρμακα / αλκοό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ροπική κοιλιοκάκ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υξημένες ανάγκε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Κύησ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λυτική αναιμ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κάθαρ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ναστολή διυδροφιλικής αναγωγά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ΛΙΝΙ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Γενικά ευρήματα αναιμία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ιδικά ευρήματα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λόγω ιστικών συνεπειώ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Γλωσσίτιδα – στοματίτιδα – χειλίτιδ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γαστρεντερ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αναπνευστ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οστεοβλαστικής δραστηριότητα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ιμορραγική διάθε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ίκτερος (λόγω αιμόλυσης) – «Λεμονοειδής ωχρότητα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Νευροπάθεια (κυρίως αισθητική, λιγότερο κινητική, αργότερα κεντρική με οπτική νευρίτιδα και νευροψυχιατρικές εκδηλώσει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η Γενική αί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ατοκρίτ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οσφαι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ος όγκος ερυθρών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V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υξημέν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συγκέντρωση αιμοσφαιρίνης (Μ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αυξημέ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πυκνότητα αιμοσφαιρίνης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HC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φυσιολογική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ευκοπενία – θρομβοπεν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επίχρισμα αίματ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ακρ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ισ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ΜΟΡΦΟΛΟΓΙΚΕΣ ΔΙΑΤΑΡΑΧΕΣ ΕΡΥΘΡ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νισοκυττάρωση 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διακυμάνσεις στο μέγεθος των ερυθρών αιμοσφαιρί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ικιλ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διακυμάνσεις στο σχήμα των ερυθρών αιμοσφαιρίω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ι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μείω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α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αύξη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οχρωμία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μείωση συγκέντρωσης αιμοσφαιρίνης ανά ερυθρ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εγαλοβλάστες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πρόδρομες μορφές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4-05-21T08:40:39Z</dcterms:modified>
  <cp:revision>38</cp:revision>
  <dc:subject/>
  <dc:title>Παρουσίαση του PowerPoint</dc:title>
</cp:coreProperties>
</file>